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2"/>
          <p:cNvSpPr/>
          <p:nvPr/>
        </p:nvSpPr>
        <p:spPr>
          <a:xfrm>
            <a:off x="8640" y="136440"/>
            <a:ext cx="651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b400"/>
                </a:solidFill>
                <a:latin typeface="Big Caslon"/>
                <a:ea typeface="Big Caslon"/>
              </a:rPr>
              <a:t>Vocabulary to Kn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457200" y="11430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CIATION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SALVAGE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GHT-LINE METHOD OF DEPRE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ULATED DEPRE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VALUE OF A PLANT AS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2, page 5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-289800" y="136440"/>
            <a:ext cx="847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b400"/>
                </a:solidFill>
                <a:latin typeface="Big Caslon"/>
                <a:ea typeface="Big Caslon"/>
              </a:rPr>
              <a:t>Depreciation Plant Asset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304920" y="1143000"/>
            <a:ext cx="8686800" cy="57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usiness need to match revenue with expense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urrent Assets </a:t>
            </a:r>
            <a:r>
              <a:rPr b="1" lang="en-US" sz="3300" spc="-1" strike="noStrike" u="sng">
                <a:solidFill>
                  <a:srgbClr val="000000"/>
                </a:solidFill>
                <a:uFillTx/>
                <a:latin typeface="Times New Roman"/>
              </a:rPr>
              <a:t>DO NOT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preciate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preciation Expense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1.) Original Cos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2.) Estimated Salvage Valu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3.) Estimated Useful Lif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5"/>
          <p:cNvGrpSpPr/>
          <p:nvPr/>
        </p:nvGrpSpPr>
        <p:grpSpPr>
          <a:xfrm>
            <a:off x="457200" y="1295280"/>
            <a:ext cx="8533080" cy="1461240"/>
            <a:chOff x="457200" y="1295280"/>
            <a:chExt cx="8533080" cy="1461240"/>
          </a:xfrm>
        </p:grpSpPr>
        <p:sp>
          <p:nvSpPr>
            <p:cNvPr id="46" name="Text Box 5"/>
            <p:cNvSpPr/>
            <p:nvPr/>
          </p:nvSpPr>
          <p:spPr>
            <a:xfrm>
              <a:off x="993240" y="1565280"/>
              <a:ext cx="7997040" cy="1191240"/>
            </a:xfrm>
            <a:prstGeom prst="rect">
              <a:avLst/>
            </a:prstGeom>
            <a:gradFill rotWithShape="0">
              <a:gsLst>
                <a:gs pos="0">
                  <a:srgbClr val="66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915840"/>
                  <a:tab algn="ctr" pos="1941480"/>
                  <a:tab algn="ctr" pos="3198960"/>
                  <a:tab algn="ctr" pos="4564080"/>
                  <a:tab algn="ctr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rigina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timate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timated To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915840"/>
                  <a:tab algn="ctr" pos="1941480"/>
                  <a:tab algn="ctr" pos="3198960"/>
                  <a:tab algn="ctr" pos="4564080"/>
                  <a:tab algn="ctr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lvage Val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preciation Expe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915840"/>
                  <a:tab algn="ctr" pos="1941480"/>
                  <a:tab algn="ctr" pos="3198960"/>
                  <a:tab algn="ctr" pos="4564080"/>
                  <a:tab algn="ctr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0"/>
            <p:cNvGrpSpPr/>
            <p:nvPr/>
          </p:nvGrpSpPr>
          <p:grpSpPr>
            <a:xfrm>
              <a:off x="457200" y="1295280"/>
              <a:ext cx="858600" cy="858600"/>
              <a:chOff x="457200" y="1295280"/>
              <a:chExt cx="858600" cy="858600"/>
            </a:xfrm>
          </p:grpSpPr>
          <p:sp>
            <p:nvSpPr>
              <p:cNvPr id="48" name="Text Box 11"/>
              <p:cNvSpPr/>
              <p:nvPr/>
            </p:nvSpPr>
            <p:spPr>
              <a:xfrm>
                <a:off x="457200" y="1295280"/>
                <a:ext cx="401400" cy="398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12"/>
              <p:cNvSpPr/>
              <p:nvPr/>
            </p:nvSpPr>
            <p:spPr>
              <a:xfrm>
                <a:off x="914400" y="1295280"/>
                <a:ext cx="401400" cy="398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Text Box 13"/>
              <p:cNvSpPr/>
              <p:nvPr/>
            </p:nvSpPr>
            <p:spPr>
              <a:xfrm>
                <a:off x="457200" y="1755360"/>
                <a:ext cx="401400" cy="398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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Text Box 14"/>
              <p:cNvSpPr/>
              <p:nvPr/>
            </p:nvSpPr>
            <p:spPr>
              <a:xfrm>
                <a:off x="914400" y="1753920"/>
                <a:ext cx="401400" cy="398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b400"/>
                </a:solidFill>
                <a:latin typeface="Arial"/>
              </a:rPr>
              <a:t>STRAIGHT-LINE DEPRECIATION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2, page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28600" y="3165480"/>
            <a:ext cx="8686800" cy="155700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1365120"/>
                <a:tab algn="ctr" pos="3198960"/>
                <a:tab algn="ctr" pos="4564080"/>
                <a:tab algn="ctr" pos="6164280"/>
                <a:tab algn="ctr" pos="7421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ima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ar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365120"/>
                <a:tab algn="ctr" pos="3198960"/>
                <a:tab algn="ctr" pos="4564080"/>
                <a:tab algn="ctr" pos="6164280"/>
                <a:tab algn="ctr" pos="7421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Depreci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stima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365120"/>
                <a:tab algn="ctr" pos="3198960"/>
                <a:tab algn="ctr" pos="4564080"/>
                <a:tab algn="ctr" pos="6164280"/>
                <a:tab algn="ctr" pos="7421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n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eful Lif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365120"/>
                <a:tab algn="ctr" pos="3198960"/>
                <a:tab algn="ctr" pos="4564080"/>
                <a:tab algn="ctr" pos="6164280"/>
                <a:tab algn="ctr" pos="7421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92160" y="2438280"/>
            <a:ext cx="71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915840"/>
                <a:tab algn="ctr" pos="1941480"/>
                <a:tab algn="ctr" pos="3198960"/>
                <a:tab algn="ctr" pos="4564080"/>
                <a:tab algn="ctr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,250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50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,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28600" y="4419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1365120"/>
                <a:tab algn="ctr" pos="3198960"/>
                <a:tab algn="ctr" pos="4564080"/>
                <a:tab algn="ctr" pos="6164280"/>
                <a:tab algn="ctr" pos="7421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,000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b400"/>
                </a:solidFill>
                <a:latin typeface="Arial"/>
              </a:rPr>
              <a:t>CALCULATING DEPRECIATION EXPENSE FOR PART OF A YEAR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027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2, page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0"/>
          <p:cNvSpPr/>
          <p:nvPr/>
        </p:nvSpPr>
        <p:spPr>
          <a:xfrm>
            <a:off x="228600" y="3394080"/>
            <a:ext cx="8381880" cy="155700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1150920"/>
                <a:tab algn="ctr" pos="2965320"/>
                <a:tab algn="ctr" pos="4349880"/>
                <a:tab algn="ctr" pos="5948280"/>
                <a:tab algn="ctr" pos="7207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th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al Yea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150920"/>
                <a:tab algn="ctr" pos="2965320"/>
                <a:tab algn="ctr" pos="4349880"/>
                <a:tab algn="ctr" pos="5948280"/>
                <a:tab algn="ctr" pos="7207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reci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ths Ass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150920"/>
                <a:tab algn="ctr" pos="2965320"/>
                <a:tab algn="ctr" pos="4349880"/>
                <a:tab algn="ctr" pos="5948280"/>
                <a:tab algn="ctr" pos="7207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n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Us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150920"/>
                <a:tab algn="ctr" pos="2965320"/>
                <a:tab algn="ctr" pos="4349880"/>
                <a:tab algn="ctr" pos="5948280"/>
                <a:tab algn="ctr" pos="7207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1037"/>
          <p:cNvGrpSpPr/>
          <p:nvPr/>
        </p:nvGrpSpPr>
        <p:grpSpPr>
          <a:xfrm>
            <a:off x="457200" y="1295280"/>
            <a:ext cx="8380080" cy="1827000"/>
            <a:chOff x="457200" y="1295280"/>
            <a:chExt cx="8380080" cy="1827000"/>
          </a:xfrm>
        </p:grpSpPr>
        <p:sp>
          <p:nvSpPr>
            <p:cNvPr id="61" name="Text Box 1028"/>
            <p:cNvSpPr/>
            <p:nvPr/>
          </p:nvSpPr>
          <p:spPr>
            <a:xfrm>
              <a:off x="1341360" y="1565280"/>
              <a:ext cx="7495920" cy="1557000"/>
            </a:xfrm>
            <a:prstGeom prst="rect">
              <a:avLst/>
            </a:prstGeom>
            <a:gradFill rotWithShape="0">
              <a:gsLst>
                <a:gs pos="0">
                  <a:srgbClr val="66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915840"/>
                  <a:tab algn="ctr" pos="1941480"/>
                  <a:tab algn="ctr" pos="3198960"/>
                  <a:tab algn="ctr" pos="4564080"/>
                  <a:tab algn="ctr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nua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nth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nthl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915840"/>
                  <a:tab algn="ctr" pos="1941480"/>
                  <a:tab algn="ctr" pos="3198960"/>
                  <a:tab algn="ctr" pos="4564080"/>
                  <a:tab algn="ctr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precia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prec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915840"/>
                  <a:tab algn="ctr" pos="1941480"/>
                  <a:tab algn="ctr" pos="3198960"/>
                  <a:tab algn="ctr" pos="4564080"/>
                  <a:tab algn="ctr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ens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÷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e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915840"/>
                  <a:tab algn="ctr" pos="1941480"/>
                  <a:tab algn="ctr" pos="3198960"/>
                  <a:tab algn="ctr" pos="4564080"/>
                  <a:tab algn="ctr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1032"/>
            <p:cNvGrpSpPr/>
            <p:nvPr/>
          </p:nvGrpSpPr>
          <p:grpSpPr>
            <a:xfrm>
              <a:off x="457200" y="1295280"/>
              <a:ext cx="858600" cy="858600"/>
              <a:chOff x="457200" y="1295280"/>
              <a:chExt cx="858600" cy="858600"/>
            </a:xfrm>
          </p:grpSpPr>
          <p:sp>
            <p:nvSpPr>
              <p:cNvPr id="63" name="Text Box 1033"/>
              <p:cNvSpPr/>
              <p:nvPr/>
            </p:nvSpPr>
            <p:spPr>
              <a:xfrm>
                <a:off x="457200" y="1295280"/>
                <a:ext cx="401400" cy="398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034"/>
              <p:cNvSpPr/>
              <p:nvPr/>
            </p:nvSpPr>
            <p:spPr>
              <a:xfrm>
                <a:off x="914400" y="1295280"/>
                <a:ext cx="401400" cy="398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Text Box 1035"/>
              <p:cNvSpPr/>
              <p:nvPr/>
            </p:nvSpPr>
            <p:spPr>
              <a:xfrm>
                <a:off x="457200" y="1755360"/>
                <a:ext cx="401400" cy="398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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Text Box 1036"/>
              <p:cNvSpPr/>
              <p:nvPr/>
            </p:nvSpPr>
            <p:spPr>
              <a:xfrm>
                <a:off x="914400" y="1753920"/>
                <a:ext cx="401400" cy="398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Text Box 1031"/>
          <p:cNvSpPr/>
          <p:nvPr/>
        </p:nvSpPr>
        <p:spPr>
          <a:xfrm>
            <a:off x="228600" y="46483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1150920"/>
                <a:tab algn="ctr" pos="2965320"/>
                <a:tab algn="ctr" pos="4349880"/>
                <a:tab algn="ctr" pos="5948280"/>
                <a:tab algn="ctr" pos="7207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75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75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29"/>
          <p:cNvSpPr/>
          <p:nvPr/>
        </p:nvSpPr>
        <p:spPr>
          <a:xfrm>
            <a:off x="1339920" y="2743200"/>
            <a:ext cx="69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915840"/>
                <a:tab algn="ctr" pos="1941480"/>
                <a:tab algn="ctr" pos="3198960"/>
                <a:tab algn="ctr" pos="4564080"/>
                <a:tab algn="ctr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900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75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9"/>
          <p:cNvGrpSpPr/>
          <p:nvPr/>
        </p:nvGrpSpPr>
        <p:grpSpPr>
          <a:xfrm>
            <a:off x="152280" y="1066680"/>
            <a:ext cx="8431560" cy="1625400"/>
            <a:chOff x="152280" y="1066680"/>
            <a:chExt cx="8431560" cy="1625400"/>
          </a:xfrm>
        </p:grpSpPr>
        <p:sp>
          <p:nvSpPr>
            <p:cNvPr id="70" name="Text Box 7"/>
            <p:cNvSpPr/>
            <p:nvPr/>
          </p:nvSpPr>
          <p:spPr>
            <a:xfrm>
              <a:off x="582480" y="1135080"/>
              <a:ext cx="8001360" cy="1557000"/>
            </a:xfrm>
            <a:prstGeom prst="rect">
              <a:avLst/>
            </a:prstGeom>
            <a:gradFill rotWithShape="0">
              <a:gsLst>
                <a:gs pos="0">
                  <a:srgbClr val="66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1365120"/>
                  <a:tab algn="ctr" pos="2749680"/>
                  <a:tab algn="ctr" pos="4114800"/>
                  <a:tab algn="ctr" pos="5481720"/>
                  <a:tab algn="ctr" pos="6918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1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1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1365120"/>
                  <a:tab algn="ctr" pos="2749680"/>
                  <a:tab algn="ctr" pos="4114800"/>
                  <a:tab algn="ctr" pos="5481720"/>
                  <a:tab algn="ctr" pos="6918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umulate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Deprecia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Accumul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1365120"/>
                  <a:tab algn="ctr" pos="2749680"/>
                  <a:tab algn="ctr" pos="4114800"/>
                  <a:tab algn="ctr" pos="5481720"/>
                  <a:tab algn="ctr" pos="6918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precia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ens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prec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1365120"/>
                  <a:tab algn="ctr" pos="2749680"/>
                  <a:tab algn="ctr" pos="4114800"/>
                  <a:tab algn="ctr" pos="5481720"/>
                  <a:tab algn="ctr" pos="691848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18"/>
            <p:cNvGrpSpPr/>
            <p:nvPr/>
          </p:nvGrpSpPr>
          <p:grpSpPr>
            <a:xfrm>
              <a:off x="152280" y="1066680"/>
              <a:ext cx="858960" cy="858960"/>
              <a:chOff x="152280" y="1066680"/>
              <a:chExt cx="858960" cy="858960"/>
            </a:xfrm>
          </p:grpSpPr>
          <p:sp>
            <p:nvSpPr>
              <p:cNvPr id="72" name="Text Box 14"/>
              <p:cNvSpPr/>
              <p:nvPr/>
            </p:nvSpPr>
            <p:spPr>
              <a:xfrm>
                <a:off x="152280" y="1066680"/>
                <a:ext cx="401760" cy="398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5"/>
              <p:cNvSpPr/>
              <p:nvPr/>
            </p:nvSpPr>
            <p:spPr>
              <a:xfrm>
                <a:off x="609480" y="1066680"/>
                <a:ext cx="401760" cy="398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Text Box 16"/>
              <p:cNvSpPr/>
              <p:nvPr/>
            </p:nvSpPr>
            <p:spPr>
              <a:xfrm>
                <a:off x="152280" y="1527120"/>
                <a:ext cx="401760" cy="398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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17"/>
              <p:cNvSpPr/>
              <p:nvPr/>
            </p:nvSpPr>
            <p:spPr>
              <a:xfrm>
                <a:off x="609480" y="1525680"/>
                <a:ext cx="401760" cy="398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158760"/>
            <a:ext cx="868860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b400"/>
                </a:solidFill>
                <a:latin typeface="Arial"/>
              </a:rPr>
              <a:t>CALCULATING ACCUMULATED DEPRECIATION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57200" y="2992320"/>
            <a:ext cx="8231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b400"/>
                </a:solidFill>
                <a:latin typeface="Arial"/>
              </a:rPr>
              <a:t>CALCULATING BOOK VALU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156240" y="3573360"/>
            <a:ext cx="7856640" cy="119124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1365120"/>
                <a:tab algn="ctr" pos="2749680"/>
                <a:tab algn="ctr" pos="4114800"/>
                <a:tab algn="ctr" pos="5481720"/>
                <a:tab algn="ctr" pos="691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umula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365120"/>
                <a:tab algn="ctr" pos="2749680"/>
                <a:tab algn="ctr" pos="4114800"/>
                <a:tab algn="ctr" pos="5481720"/>
                <a:tab algn="ctr" pos="691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preci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365120"/>
                <a:tab algn="ctr" pos="2749680"/>
                <a:tab algn="ctr" pos="4114800"/>
                <a:tab algn="ctr" pos="5481720"/>
                <a:tab algn="ctr" pos="691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156240" y="4962600"/>
            <a:ext cx="7856640" cy="119124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1365120"/>
                <a:tab algn="ctr" pos="2749680"/>
                <a:tab algn="ctr" pos="4114800"/>
                <a:tab algn="ctr" pos="5481720"/>
                <a:tab algn="ctr" pos="691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n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365120"/>
                <a:tab algn="ctr" pos="2749680"/>
                <a:tab algn="ctr" pos="4114800"/>
                <a:tab algn="ctr" pos="5481720"/>
                <a:tab algn="ctr" pos="691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preci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365120"/>
                <a:tab algn="ctr" pos="2749680"/>
                <a:tab algn="ctr" pos="4114800"/>
                <a:tab algn="ctr" pos="5481720"/>
                <a:tab algn="ctr" pos="691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37840" y="2306520"/>
            <a:ext cx="75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1365120"/>
                <a:tab algn="ctr" pos="2749680"/>
                <a:tab algn="ctr" pos="4114800"/>
                <a:tab algn="ctr" pos="5481720"/>
                <a:tab algn="ctr" pos="691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400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6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53720" y="4422600"/>
            <a:ext cx="75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1365120"/>
                <a:tab algn="ctr" pos="2749680"/>
                <a:tab algn="ctr" pos="4114800"/>
                <a:tab algn="ctr" pos="5481720"/>
                <a:tab algn="ctr" pos="691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,250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600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65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53720" y="5811840"/>
            <a:ext cx="75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1365120"/>
                <a:tab algn="ctr" pos="2749680"/>
                <a:tab algn="ctr" pos="4114800"/>
                <a:tab algn="ctr" pos="5481720"/>
                <a:tab algn="ctr" pos="691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850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65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9:52:01Z</dcterms:created>
  <dc:creator>Mary Colleen McLaughlin</dc:creator>
  <dc:description/>
  <dc:language>en-US</dc:language>
  <cp:lastModifiedBy>David Combs</cp:lastModifiedBy>
  <dcterms:modified xsi:type="dcterms:W3CDTF">2011-10-17T22:02:17Z</dcterms:modified>
  <cp:revision>62</cp:revision>
  <dc:subject/>
  <dc:title>ADJUSTING ENTRY FOR SUPPLIES</dc:title>
</cp:coreProperties>
</file>